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421-4E5D-45D2-9805-B29C7624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C1C-D107-4EED-81A0-6BEEA3E2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A86A-A863-4DE0-8FB8-D3F997DD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C71-7E8C-4782-909F-86785E3C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2138-3FF6-46F2-8249-7A228D8D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0FD6-1BE3-4ABF-A3F7-D78F4B10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8535-661F-4E26-BA69-365522A8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370E-D7EA-4EFC-9276-18FA6C95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47F1-FDDA-4032-A5C6-6AB7001F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0B1B-B6B2-48EE-8B9D-501AE9FE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13AC-E36B-48A5-9B8B-464E756B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1BA-DBF6-43B7-A096-8283FE83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247E-9F73-436E-B18A-231CF267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3B9C-DAD3-4F69-B3B5-622C55D4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EB08-042D-42F5-A4F4-5CF6411A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09D3-0149-4E22-BAC5-1A5C1B89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33B1-4FC6-4D94-906F-FF143626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84F75-5047-4A14-BBCB-EC80433C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2AFC9-441C-40FD-AD57-FC1B5ACE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7475-11F4-4AB4-923F-BA19F6A7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A4EE-91DF-4045-8D5C-8DA479FE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2A78F-1CF2-4085-B978-F8764F5D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238-CBB2-4EE0-8A8C-F18A5FB7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C2D55-F4B4-4738-B43F-11FAD5B6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CC9F5-5BF1-43AE-971A-BD200007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4D1FD-2104-43F6-96DD-CF2F1CC2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96B11-78CD-42C3-B6B1-77D30D74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6C9C1-562A-4055-B4A3-2CF4C434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8BA60-E3C6-4D51-B8C6-57C765E5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8C06B-196B-43F3-945F-3A2C199C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DD98E-93D4-464C-9BE4-8318642F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0558D-BC8E-4329-B6C7-99834CBD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1E9A4-C262-459A-9335-211B107D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B51-9FC1-4154-8F63-EF5D9738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87800-B98F-4895-BC43-5239CE5F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C4E9-F367-47EB-9501-3FD7A86C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037A5-92EE-4399-808D-49471CA2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2F1F4-B28A-4A88-8974-A8C72152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6DCF1-7251-4B5C-B652-61F19AE9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1B1D3-11F6-4B1E-95C2-0DEE1FBB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36EDB-9EE0-4773-8A3B-16F07C95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4B309-BB4A-4054-94CF-FCF7A51A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4073F-59E3-449F-B748-63E4677E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E4A-C122-4EB8-A035-1E68D2C4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42C-3543-45E6-804C-212B25BC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9C7-D287-4068-9848-340026CA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348-B1B2-4047-ACA3-F916E425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D0A-ABAB-430B-BCC6-BC517191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E6A9-DFD2-44A5-B13B-C6DCFD97016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F0F7-E0EA-4EE3-A2E4-B94C0C35741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0AB1-B55F-4A13-B521-1719C90615D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D5EB-27A9-442E-BAEF-AC3EA0CD743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240" y="4038480"/>
            <a:ext cx="56372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745"/>
                </a:solidFill>
                <a:latin typeface="Trebuchet MS"/>
              </a:rPr>
              <a:t>Manufacturing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212760" y="1530360"/>
            <a:ext cx="7656480" cy="343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785960" y="3724200"/>
            <a:ext cx="7169040" cy="3724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457200" y="5335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Kareem is the only one who has an in depth understanding of the troubleshooting the syst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Accountability and Adaptability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Creativity and Intellectual Curiosity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Problem Identification, Formulation and Solution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33520" y="121896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Tw Cen MT"/>
              </a:rPr>
              <a:t>Self-Direction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533520" y="1143000"/>
            <a:ext cx="77724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8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Tw Cen MT"/>
              </a:rPr>
              <a:t>Social Responsibility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6:48:18Z</dcterms:created>
  <dc:creator>cay</dc:creator>
  <dc:description/>
  <dc:language>en-US</dc:language>
  <cp:lastModifiedBy>ella</cp:lastModifiedBy>
  <dcterms:modified xsi:type="dcterms:W3CDTF">2012-07-04T13:32:12Z</dcterms:modified>
  <cp:revision>10</cp:revision>
  <dc:subject/>
  <dc:title>Scenario - 2</dc:title>
</cp:coreProperties>
</file>